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DE31-EAF4-45DE-96C4-E120C836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B072-CC44-472D-A480-645AF029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481-DDC5-4090-801F-61464FBE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CF7-AF3C-46CD-B04A-3C540203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4741-D0F2-48C9-8EEB-FB6118D4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0C49-9A1F-44DE-9449-EA385088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749E-C6EA-4B46-B659-82B1673F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0FAB-E89C-424C-932F-7CAB1CE7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B976-AD0B-49F5-AAF4-81E44228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C4EA-0EDB-40A6-A447-E0C509F6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0D7E-CF8B-4F3A-B3B2-F26AAF00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11E-F95A-42EE-98E3-BCD190E0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C194-5D27-4F69-A305-DEE37487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F7FB-D5FA-4153-892E-51CC0131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2695-34AE-47BB-AC7C-9981D1BE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7F8D-9025-4B6E-A4FA-ED7F4751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778D-9C69-4002-A053-8109DB62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733C5-8A38-4C9D-A033-17F67E84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D1808-FBF7-4131-8683-67BB9E24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0B314-F5F1-49F7-93BD-D07B4943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2448D-82DD-40F3-B0B7-802E5CF6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14A10-99BB-441C-BFB7-178D9901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1A9C-7020-45D5-8B46-45B8CBF7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6D187-E956-4141-91B8-AA00831F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4743F-A199-4F6C-9343-E14DF98F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60E5E-08BF-42E5-A473-14220949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9EB71-D451-4521-B1A9-B561E120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B3B7B-7AD4-47A7-AF28-CF2E9E45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15C63-7A37-4D97-B6F3-7BB8FCA5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39805-A12C-44E7-84D8-ABE1835E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7363D-F1C0-4836-9B71-ECA74312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748C5-4313-4E8D-AB24-756CB74C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4A04A-9E62-4F81-90EC-703D6D6E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8C4F-8DCE-4189-BDCD-BB2C873E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875FF-D94D-465B-AD57-E50491F5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91E8E-2EB1-410E-B08A-F7B78A42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640DC-8723-497C-AB02-CF3ECDD9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57CCA-F56F-4161-B4B3-C55C125D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F6C1A-03A6-490A-9878-F8499648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C3521-91E4-4FAD-955A-6CD084C1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67376-5C77-4C20-9646-ED30AA38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1E48E-65B7-48D6-BB58-F3E7ACA6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C52EE-35CE-4003-9BED-B72E1F78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99889-A53B-4469-A4BB-F630E1D0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B6B-CD25-473F-A1E7-4902C016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F110A-BD31-41E8-BFF0-2F4ED11D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2C1A1-51D3-4A54-8100-56275699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27CC3-EB83-4190-8912-E4B0161C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4FC7F-C4FC-4C93-8D49-A91C5310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CCB99-8B73-402C-9C1B-73CCE6C1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9DDF1-C2C3-48D1-9DB8-2BD303D3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C3D48-31EE-4428-8EEF-611774D8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43008-E0D2-4889-8577-33955ECF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219F7-4504-4D16-B10C-B499DE91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640B8-67C6-4B4C-A672-6A2E8748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DD5-89A9-491B-BCD3-94D77B77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29D3B-1068-4D6D-9F81-5DB6BFF2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191E3-88C8-484E-AAA4-DD4153F8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CD05D-BC86-41DC-8EEF-B9F11338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EDA80-02F5-4C4E-B6BF-4D1AD873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03B55-F703-4261-B22C-FD52BF5C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9815E-2D30-4DEC-8E36-B2A4E840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F2C36-5513-402D-91CD-EFAF791D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09B9A-8DE6-4A9C-BAF7-25BAB5AC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F3C89-387C-46DE-B0B0-12022226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2B32B-F880-475C-B43A-BF83E291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DEC-027B-44FC-9F6F-6D7B8BBB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7BFBC-0A94-4010-A7C8-A3EF09DD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F3965-4B60-4BAC-98A3-95F7269B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7CDBD-5B39-42F0-97E8-5DFB40FD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FA4-2D16-43D1-8611-CDC30BB3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CDB-2E02-4ED2-AC14-0E946EA4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7081-B305-4958-8785-BB2C1273D1BD}" type="slidenum"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0 Forma libre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0925-D0DF-497A-9D87-5EAB9CAA3B09}" type="slidenum"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0 Forma libre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44ED-100B-4B2F-884A-7AE288AE5DDB}" type="slidenum"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12BF-FAFE-4484-8535-AAA3944CED29}" type="slidenum"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21B0-1433-4F39-BE9C-74913CE25C92}" type="slidenum"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E26D-3D04-4853-BD47-B9008A95A2FC}" type="slidenum"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14680" y="5286240"/>
            <a:ext cx="6480000" cy="230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2d050"/>
                </a:solidFill>
                <a:latin typeface="Franklin Gothic Book"/>
              </a:rPr>
              <a:t>Sustainable Architectur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3 CuadroTexto"/>
          <p:cNvSpPr/>
          <p:nvPr/>
        </p:nvSpPr>
        <p:spPr>
          <a:xfrm>
            <a:off x="500040" y="50004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arch Show and tell-ta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lated with the environment</a:t>
            </a:r>
            <a:br>
              <a:rPr sz="41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2286000" y="2000160"/>
            <a:ext cx="64771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cyclable materia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38574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Functional design: Color, Light, Spaces and Dimensions.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643280" y="1641600"/>
            <a:ext cx="429444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4740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emperature contro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72151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onderful and recyclable construct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2571840" y="2276640"/>
            <a:ext cx="6259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02:04:08Z</dcterms:created>
  <dc:creator>Marcos Colina</dc:creator>
  <dc:description/>
  <dc:language>en-US</dc:language>
  <cp:lastModifiedBy>Marcos Colina</cp:lastModifiedBy>
  <dcterms:modified xsi:type="dcterms:W3CDTF">2009-11-26T00:59:13Z</dcterms:modified>
  <cp:revision>9</cp:revision>
  <dc:subject/>
  <dc:title>Bio-construction</dc:title>
</cp:coreProperties>
</file>